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A2F-5AF7-4338-B5F5-17AA9B4B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87E-C460-4145-9449-D34947C6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ACA-9F79-4AC6-982D-51FE5AF4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DF7-C3CE-4DCF-B0C6-6AA11626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2100A-B708-4E29-BE21-B3AFBF22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39A0E-2420-41D9-8D34-5C884147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E5F5C-8BCB-4155-BE66-1005D37E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0E0D3-478D-4357-99D3-D6637F89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FA9D0-EDA7-4C51-A41F-0896F247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F3716-C025-48AE-AC18-6FB5AC35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3F272-E56C-402F-BAE8-CEA8671F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5F3-2C78-4C70-80C8-15441B87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4B729-8CA6-4528-BC20-F166E42F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483CA-A34D-43F1-B74F-CDF2F504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30899-2161-41BC-AEF5-00BAD040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98220-5D43-4AAB-B44C-7636CF59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5286E-ADA1-4E89-BDCC-80AEE4BF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867-5417-49B2-9B4D-017D1C0E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545-8597-4F7C-9A78-9365BD14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854-E256-4909-8DAC-D24E4185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CA2-23E4-4B41-ADA2-6EA499BB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9E7-0A6C-41F3-B47F-5F6B8282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008-0FF5-4E6E-B64B-15B6A0EC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3C8-9FE4-4669-A5BB-FBCC0DA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89B3-FCD9-4D48-9022-2E050F2EB7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732C-4BE1-452F-8B79-CE62929862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лияние алкоголя на головной моз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ученица 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a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акчиева Людм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: познакомиться с влиянием алкоголя на головной моз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ча: изучить влияние алкоголя на головной моз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ческий мозг состоит из 15 миллиардов нервных клеток (нейронов). Каждую клеточку питает кровью свой микрокапилляр. Этот микрокапилляр настолько тоненький, что для нормального питания данного нейрона эритроциты могут протискиваться только в одни ряд. И когда к основанию микрокапилляра подходит алкогольная склейка эритроцитов, то она его закупоривает, проходит 7-9 минут — и очередная клетка мозга человека безвозвратно погиба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52760" y="1103400"/>
            <a:ext cx="5837040" cy="4105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ледствие того, что кислород прекращает поступать к клеткам головного мозга, начинается гипоксия, то есть кислородное голодание (кислородная недостаточность). Именно гипоксия и воспринимается человеком как якобы безобидное состояние опьянения. И это приводит к онемению, а потом и отмиранию участков головного мозга. Всё это субъективно воспринимается выпившим как «расслабление», «свобода» от внешнего мира, схожая с эйфорией освобождающегося из тюрьмы после долгого сидения. В действительности просто часть головного мозга искусственно отключается от восприятия зачастую «неприятной» информации извн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нно в мозгу обнаруживаются наибольшие изменения при вскрытии. Твердая мозговая оболочка напряжена, мягкие оболочки отечны, полнокровны. Головной мозг резко отечен, сосуды расширены, множество мелких кист диаметром 1-2 мм. Эти мелкие кисты образовались в местах кровоизлияний и некроза (омертвления) участков вещества моз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00360" y="3933720"/>
            <a:ext cx="3571920" cy="2381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каждой так называемой «умеренной» выпивки у человека в голове появляется новое кладбище погибших нервных клеток (нейронов). И когда врачи-патологоанатомы вскрывают череп любого так называемого «умеренно пьющего» человека, то у всех видят одинаковую картину — «сморщенный мозг», меньший в объёме, вся поверхность коры которого — в микрорубцах, микроязвах, выпадах структу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2-03T15:52:06Z</dcterms:modified>
  <cp:revision>3</cp:revision>
  <dc:subject/>
  <dc:title>PowerPoint Presentation</dc:title>
</cp:coreProperties>
</file>